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71C-AE2E-4C41-87FA-2C8EF5B9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495-7845-4C2E-AD42-F1CE6D2E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FF4-107D-469C-94BD-BDF53F68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678-31E7-450B-8D77-1099D006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7B7E-9823-461D-B6D4-D0B4C9CB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630F-51AE-40FC-AF2A-A7C82DD5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68C9-B3AF-4066-BEC3-25A1B3D3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96DE-C68F-4E09-82A4-65C3E1A6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F3F6-26D4-4489-8E4B-4C562E87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AD3E-BBDF-4476-BC02-B4FF2D4F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AC91-4AB8-4E32-89CA-6B7CFB13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C91-8BDA-445B-8E57-DBB30A7E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2F0F-2706-4F33-AE81-1C63A171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1DC8-8587-4166-ACBE-401409A6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B791-A732-474D-9B9C-22B38742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EEAC-6BF5-4232-8FDA-ED60DFFA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0A5A-9D5B-4D6F-BF1F-1EAE10AB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034-F579-40DA-8178-0BA562DA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E44-720B-4793-A9BD-223C5965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B81-5D50-4E5F-9DCC-10D77DBF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D9E-EF50-4ECB-BED3-73965864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F97-12A4-403D-85E1-99522C14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E8E-B5D2-458E-BCC4-E72C0E56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056-F206-4FFC-A5F8-F289A4EB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0509-D2AC-440F-8B15-7FAD7B36982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CD50-EBCF-455C-B8BE-199FD0696E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How to Calculate your G.P.A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ing Data (e.g. numbers, facts) to guide how you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= 4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 = 3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 = 2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 = 1 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= 0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160200" y="365760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5880" y="25146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b475"/>
                </a:solidFill>
                <a:latin typeface="Arial"/>
              </a:rPr>
              <a:t>PA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5160" y="40384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NOT PA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oing the Mat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 up your G.P.A. po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vide that number by the number classes you ha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y grades are an ‘A’, a ‘B’ and two ‘Ds’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.P.A. points = ___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# of classes =  ___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.P.A. = _____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2897280" y="41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5000" y="4648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2880" y="51055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29:23Z</dcterms:created>
  <dc:creator>Travis Engstrand</dc:creator>
  <dc:description/>
  <dc:language>en-US</dc:language>
  <cp:lastModifiedBy>Travis Engstrand</cp:lastModifiedBy>
  <dcterms:modified xsi:type="dcterms:W3CDTF">2010-02-02T17:30:08Z</dcterms:modified>
  <cp:revision>2</cp:revision>
  <dc:subject/>
  <dc:title>How to Calculate your G.P.A.</dc:title>
</cp:coreProperties>
</file>